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shiphorn.wav" ContentType="audio/x-wav"/>
  <Override PartName="/ppt/media/zapbig0g.wav" ContentType="audio/x-wav"/>
  <Override PartName="/ppt/media/zipdn102.wav" ContentType="audio/x-wav"/>
  <Override PartName="/ppt/media/oldcarhorn.wav" ContentType="audio/x-wav"/>
  <Override PartName="/ppt/media/lzipup01.wav" ContentType="audio/x-wav"/>
  <Override PartName="/ppt/media/bserie06.wav" ContentType="audio/x-wav"/>
  <Override PartName="/ppt/media/jetflyby2.wav" ContentType="audio/x-wav"/>
  <Override PartName="/ppt/media/hzipup01.wav" ContentType="audio/x-wav"/>
  <Override PartName="/ppt/media/meepmeep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5669-6F9E-41A8-B096-B34FB546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C2BA-7CD6-4596-A453-9BBE1092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9157-83FE-49C3-938B-0E7F6FCBC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D104-87C2-4D1F-9AE1-54FB0481F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612E-6772-4A2C-AEF3-C6FBF8AB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3122-1304-4DE0-A21D-D5693D1F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4AD8-EB5D-48D2-B1F1-6EE54F9C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AC5A-0A6E-495D-A746-CD3122A8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94D8-670C-415E-A2AE-AA59FC2A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0DF6-83B5-47B9-AB65-5FAE3B22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384D-6227-46B4-8A4E-14A57248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C2C0-B09D-4355-88B1-C800CDE8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5357-9FC5-486A-80DE-476FB6B72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hiphorn.wav"/><Relationship Id="rId2" Type="http://schemas.openxmlformats.org/officeDocument/2006/relationships/audio" Target="../media/oldcarhorn.wav"/><Relationship Id="rId3" Type="http://schemas.openxmlformats.org/officeDocument/2006/relationships/audio" Target="../media/bserie06.wav"/><Relationship Id="rId4" Type="http://schemas.openxmlformats.org/officeDocument/2006/relationships/audio" Target="../media/oldcarhorn.wav"/><Relationship Id="rId5" Type="http://schemas.openxmlformats.org/officeDocument/2006/relationships/audio" Target="../media/bserie06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hzipup01.wav"/><Relationship Id="rId4" Type="http://schemas.openxmlformats.org/officeDocument/2006/relationships/audio" Target="../media/jetflyby2.wav"/><Relationship Id="rId5" Type="http://schemas.openxmlformats.org/officeDocument/2006/relationships/audio" Target="../media/hzipup01.wav"/><Relationship Id="rId6" Type="http://schemas.openxmlformats.org/officeDocument/2006/relationships/audio" Target="../media/jetflyby2.wav"/><Relationship Id="rId7" Type="http://schemas.openxmlformats.org/officeDocument/2006/relationships/audio" Target="../media/meepmeep.wav"/><Relationship Id="rId8" Type="http://schemas.openxmlformats.org/officeDocument/2006/relationships/audio" Target="../media/bserie06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meepmeep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hzipup01.wav"/><Relationship Id="rId3" Type="http://schemas.openxmlformats.org/officeDocument/2006/relationships/audio" Target="../media/jetflyby2.wav"/><Relationship Id="rId4" Type="http://schemas.openxmlformats.org/officeDocument/2006/relationships/audio" Target="../media/hzipup01.wav"/><Relationship Id="rId5" Type="http://schemas.openxmlformats.org/officeDocument/2006/relationships/audio" Target="../media/jetflyby2.wav"/><Relationship Id="rId6" Type="http://schemas.openxmlformats.org/officeDocument/2006/relationships/audio" Target="../media/meepmeep.wav"/><Relationship Id="rId7" Type="http://schemas.openxmlformats.org/officeDocument/2006/relationships/audio" Target="../media/bserie06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meepmeep.wav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shiphorn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zipdn102.wav"/><Relationship Id="rId5" Type="http://schemas.openxmlformats.org/officeDocument/2006/relationships/audio" Target="../media/zipdn102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meepmeep.wav"/><Relationship Id="rId4" Type="http://schemas.openxmlformats.org/officeDocument/2006/relationships/audio" Target="../media/bserie06.wav"/><Relationship Id="rId5" Type="http://schemas.openxmlformats.org/officeDocument/2006/relationships/audio" Target="../media/meepmeep.wav"/><Relationship Id="rId6" Type="http://schemas.openxmlformats.org/officeDocument/2006/relationships/audio" Target="../media/bserie06.wav"/><Relationship Id="rId7" Type="http://schemas.openxmlformats.org/officeDocument/2006/relationships/audio" Target="../media/meepmeep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8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006560" y="2143080"/>
                <a:ext cx="68436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949320" y="741240"/>
            <a:ext cx="7289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entury"/>
              </a:rPr>
              <a:t>Distributive Proper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43028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entury"/>
              </a:rPr>
              <a:t>Add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35268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entury"/>
              </a:rPr>
              <a:t>Subtr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106640" y="4138560"/>
                <a:ext cx="68436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hip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8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749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Use the distributive property to comple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19120" y="1846440"/>
                <a:ext cx="333684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477800" y="2833560"/>
                <a:ext cx="8258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181240" y="3622680"/>
                <a:ext cx="5652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363760" y="2841480"/>
                <a:ext cx="104292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53" name=""/>
          <p:cNvCxnSpPr/>
          <p:nvPr/>
        </p:nvCxnSpPr>
        <p:spPr>
          <a:xfrm flipH="1" flipV="1" rot="5400000">
            <a:off x="1904760" y="1593000"/>
            <a:ext cx="27720" cy="694440"/>
          </a:xfrm>
          <a:prstGeom prst="curvedConnector5">
            <a:avLst>
              <a:gd name="adj1" fmla="val 1322368"/>
              <a:gd name="adj2" fmla="val 50000"/>
              <a:gd name="adj3" fmla="val 132236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/>
          <p:nvPr/>
        </p:nvCxnSpPr>
        <p:spPr>
          <a:xfrm flipH="1" flipV="1" rot="5400000">
            <a:off x="2368440" y="1182240"/>
            <a:ext cx="27720" cy="1542240"/>
          </a:xfrm>
          <a:prstGeom prst="curvedConnector5">
            <a:avLst>
              <a:gd name="adj1" fmla="val 1822368"/>
              <a:gd name="adj2" fmla="val 49988"/>
              <a:gd name="adj3" fmla="val 1822368"/>
            </a:avLst>
          </a:prstGeom>
          <a:ln w="28440">
            <a:solidFill>
              <a:srgbClr val="0066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505400" y="1865160"/>
                <a:ext cx="46386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6068880" y="2836800"/>
                <a:ext cx="567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796080" y="4675320"/>
                <a:ext cx="10177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595920" y="2801880"/>
                <a:ext cx="188604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7202520" y="3762360"/>
                <a:ext cx="7444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6507000" y="3716280"/>
                <a:ext cx="16876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8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749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Use the distributive property to comple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04640" y="1846440"/>
                <a:ext cx="34498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477800" y="2859120"/>
                <a:ext cx="8258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955880" y="3622680"/>
                <a:ext cx="10173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363760" y="2841480"/>
                <a:ext cx="1128600" cy="80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67" name=""/>
          <p:cNvCxnSpPr/>
          <p:nvPr/>
        </p:nvCxnSpPr>
        <p:spPr>
          <a:xfrm flipH="1" flipV="1" rot="5400000">
            <a:off x="1904760" y="1593000"/>
            <a:ext cx="27720" cy="694440"/>
          </a:xfrm>
          <a:prstGeom prst="curvedConnector5">
            <a:avLst>
              <a:gd name="adj1" fmla="val 1322368"/>
              <a:gd name="adj2" fmla="val 50000"/>
              <a:gd name="adj3" fmla="val 132236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/>
          <p:nvPr/>
        </p:nvCxnSpPr>
        <p:spPr>
          <a:xfrm flipH="1" flipV="1" rot="5400000">
            <a:off x="2368440" y="1182240"/>
            <a:ext cx="27720" cy="1542240"/>
          </a:xfrm>
          <a:prstGeom prst="curvedConnector5">
            <a:avLst>
              <a:gd name="adj1" fmla="val 1822368"/>
              <a:gd name="adj2" fmla="val 49988"/>
              <a:gd name="adj3" fmla="val 1822368"/>
            </a:avLst>
          </a:prstGeom>
          <a:ln w="28440">
            <a:solidFill>
              <a:srgbClr val="0066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560840" y="1836720"/>
                <a:ext cx="45831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094440" y="2827440"/>
                <a:ext cx="5158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7021440" y="4646520"/>
                <a:ext cx="5652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595920" y="2801880"/>
                <a:ext cx="188604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7375680" y="3762360"/>
                <a:ext cx="39672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6494400" y="3701880"/>
                <a:ext cx="16876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8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457360" y="1471680"/>
                <a:ext cx="23194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949320" y="741240"/>
            <a:ext cx="7289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entury"/>
              </a:rPr>
              <a:t>Division Proper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052800" y="2451240"/>
                <a:ext cx="152712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÷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726080" y="1449360"/>
                <a:ext cx="10746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564080" y="2444760"/>
                <a:ext cx="11318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932200" y="3444840"/>
                <a:ext cx="163980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÷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541760" y="3438360"/>
                <a:ext cx="118908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hip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8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749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Use division properties to comple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055520" y="2724120"/>
                <a:ext cx="220680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5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629080" y="2112840"/>
                <a:ext cx="4521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721480" y="2612880"/>
                <a:ext cx="214920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7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124760" y="2004840"/>
                <a:ext cx="62208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857680" y="4243320"/>
                <a:ext cx="2489040" cy="21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9</m:t>
                    </m:r>
                    <m:f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633920" y="5219640"/>
                <a:ext cx="5666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53828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49, 2 – 8 #1-9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14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 SKELTON</cp:lastModifiedBy>
  <dcterms:modified xsi:type="dcterms:W3CDTF">2004-08-23T00:08:28Z</dcterms:modified>
  <cp:revision>66</cp:revision>
  <dc:subject/>
  <dc:title>Slide 1</dc:title>
</cp:coreProperties>
</file>